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209-0A38-4C51-96D2-67A74137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3E5-9927-49B6-8A42-756967D6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366-8D42-4132-980B-3E4995B8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C58-B172-4B84-9809-129AB188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2B6-BFD7-4C8E-AED6-BCC866D7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77D-4647-4ED4-B55B-ECE8ABD0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F7E-AD41-4C6D-AF96-F7FC6E38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1DE-992D-4CF5-A726-F901B80B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A87-BE8D-47E5-8946-0D319CFE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CE9-65CC-4815-942C-D5D172A5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38D-CF98-4A3B-9C7E-B2FD8A67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236-E5DF-4434-B571-CD2625E4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574B-841E-46FA-A990-F581D41CA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geoghagan_geometry_assignments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6 Angle Pair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&lt;A &amp; &lt;B are supplementary. m&lt;A is 5 times m&lt;B.  Find m&lt;A &amp; m&lt;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A + m&lt;B = 18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A = 5(m&lt;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bstitu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(m&lt;B) + m&lt;B = 18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(m&lt;B)=18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B=3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A=1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2585880"/>
            <a:ext cx="1676160" cy="69084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581280" y="2514240"/>
            <a:ext cx="9907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4876920"/>
            <a:ext cx="2666880" cy="144756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8" dur="indefinite" restart="never" nodeType="tmRoot">
          <p:childTnLst>
            <p:seq>
              <p:cTn id="1799" dur="indefinite" nodeType="mainSeq">
                <p:childTnLst>
                  <p:par>
                    <p:cTn id="1800" fill="hold">
                      <p:stCondLst>
                        <p:cond delay="0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fill="hold">
                      <p:stCondLst>
                        <p:cond delay="0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angles are adjac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133720"/>
            <a:ext cx="2210040" cy="3429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068480" y="2128320"/>
            <a:ext cx="1143000" cy="3125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886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9144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1&amp;&lt;2, &lt;2&amp;&lt;3, &lt;3&amp;&lt;4, &lt;4&amp;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971800"/>
            <a:ext cx="49532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ical Ang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 angles that share a common vertex &amp; whose sides form 2 pairs of opposite r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&amp;&lt;3,  &lt;2&amp;&lt;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1600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 what do we call &lt;1&amp;&lt;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near Pai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of ang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djacent angles whose non-common sides are opposite r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7360" y="4186080"/>
            <a:ext cx="5795640" cy="1216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733560" y="2742840"/>
            <a:ext cx="106668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625800">
            <a:off x="4187520" y="44193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     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an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1 &amp; &lt;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acent an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1&amp;&lt;2, &lt;2&amp;&lt;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3&amp;&lt;4, &lt;4&amp;&lt;5, &lt;5&amp;&lt;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p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5&amp;&lt;4, &lt;1&amp;&lt;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acent angles not a linear p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1&amp;&lt;2, &lt;2&amp;&lt;3, &lt;3&amp;&lt;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0560" y="3427560"/>
            <a:ext cx="39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17524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553080" y="1752120"/>
            <a:ext cx="91440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048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mportant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Angles are congru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the measures of the angles in a linear pair is 18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&lt;5=13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1143000"/>
            <a:ext cx="266724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609120"/>
            <a:ext cx="1066680" cy="5257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057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2133720"/>
            <a:ext cx="14479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13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5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5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1981080"/>
            <a:ext cx="1218960" cy="221004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000"/>
                            </p:stCondLst>
                            <p:childTnLst>
                              <p:par>
                                <p:cTn id="6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A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D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E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1066680"/>
            <a:ext cx="563868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505320" y="304560"/>
            <a:ext cx="4800600" cy="2361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454200">
            <a:off x="4723920" y="1125360"/>
            <a:ext cx="37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x+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y+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64000">
            <a:off x="4335120" y="15998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4y-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2590920"/>
            <a:ext cx="2438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=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&lt;ABE=1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&lt;ABD=5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&lt;DBC=1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&lt;EBC=5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228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1143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01000" y="1828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762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2133720"/>
            <a:ext cx="3581280" cy="472428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4000"/>
                            </p:stCondLst>
                            <p:childTnLst>
                              <p:par>
                                <p:cTn id="9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952880"/>
            <a:ext cx="3049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lementary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ngles whose sum is 9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29528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52578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95280" y="2895480"/>
            <a:ext cx="129564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114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648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962520" y="2666520"/>
            <a:ext cx="914400" cy="266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76920" y="2666520"/>
            <a:ext cx="457200" cy="266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86400" y="2819520"/>
            <a:ext cx="83808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486400" y="4266720"/>
            <a:ext cx="26668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809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5334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800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5562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5486400"/>
            <a:ext cx="4876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1 &amp; &lt;2 are comple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A &amp; &lt;B are comple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0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pplementary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ngles whose sum is 18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85800" y="2742840"/>
            <a:ext cx="266688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599840" y="2438280"/>
            <a:ext cx="304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8782400">
            <a:off x="1258200" y="3542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666880" y="5181480"/>
            <a:ext cx="18288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495680" y="3505320"/>
            <a:ext cx="381240" cy="167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257800" y="3580920"/>
            <a:ext cx="3808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57800" y="5105160"/>
            <a:ext cx="144792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743200"/>
            <a:ext cx="2743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1 &amp; &lt;2 are supplementa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X &amp; &lt;Y are sup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0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16:45:56Z</dcterms:created>
  <dc:creator>julie.geoghagan</dc:creator>
  <dc:description/>
  <dc:language>en-US</dc:language>
  <cp:lastModifiedBy>julie.geoghagan</cp:lastModifiedBy>
  <dcterms:modified xsi:type="dcterms:W3CDTF">2005-07-28T17:08:07Z</dcterms:modified>
  <cp:revision>19</cp:revision>
  <dc:subject/>
  <dc:title>1.6 Angle Pair Relationships</dc:title>
</cp:coreProperties>
</file>